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704909"/>
        <c:axId val="22852523"/>
      </c:barChart>
      <c:catAx>
        <c:axId val="977049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852523"/>
        <c:crosses val="autoZero"/>
        <c:auto val="1"/>
        <c:lblAlgn val="ctr"/>
        <c:lblOffset val="100"/>
        <c:noMultiLvlLbl val="0"/>
      </c:catAx>
      <c:valAx>
        <c:axId val="228525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7049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838F-4BCD-46A5-A716-3DBA07C13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2E34-0752-4502-A2CC-B3C209B56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5AE6-3CD5-44AE-83D1-6021AB2C4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4724-E890-4432-8446-FD99A104E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DFE4-218F-4F35-A20D-83C1BC70E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3FA7-D6A8-4E89-AF0A-DEC927D0B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F56D-DF5C-4835-8A86-4F7EDA61F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979D-A199-4614-86E6-22E85F519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261E-3AC2-4255-8CFC-10FA21200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2469-0B8F-4F5D-B91D-8F3C1E51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2907-1C53-4DD2-8DD7-A824E6E9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5786-0F91-4ED8-830F-B617C021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271AB5-5C6F-4AF8-8FDD-FB53CD4FBF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