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7364768"/>
        <c:axId val="12774527"/>
      </c:barChart>
      <c:catAx>
        <c:axId val="4736476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774527"/>
        <c:crosses val="autoZero"/>
        <c:auto val="1"/>
        <c:lblAlgn val="ctr"/>
        <c:lblOffset val="100"/>
        <c:noMultiLvlLbl val="0"/>
      </c:catAx>
      <c:valAx>
        <c:axId val="1277452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36476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65A13-5298-42F6-9E3B-B61D7C87F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8DBA8-152B-4DDE-B273-7AB276204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34583-3C2B-4115-AFF2-953E0BB02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9AF07-8232-45A3-919A-B294D9F68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C7796-3FC1-4FD2-82EF-E7AFC69D6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8C928-2F4C-4E60-896E-2C9088B21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0D072-7E63-4419-B384-AF47C3809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F397D-722B-466B-992B-6414BD4EB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EA3A6-EF11-4EA2-8593-53C94E996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2AD41-512C-4CA3-A7EF-BADCB6C39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19429-95FD-41D8-A384-63B188C21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FB4AC-A2E4-4D49-98DE-83F6150F3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E021F7-5045-4C86-8666-CF336DBC2F4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