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17357"/>
        <c:axId val="39474162"/>
      </c:barChart>
      <c:catAx>
        <c:axId val="88417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74162"/>
        <c:crosses val="autoZero"/>
        <c:auto val="1"/>
        <c:lblAlgn val="ctr"/>
        <c:lblOffset val="100"/>
        <c:noMultiLvlLbl val="0"/>
      </c:catAx>
      <c:valAx>
        <c:axId val="39474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17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43F-4775-40C9-9DDB-1B27D49B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824-381E-4DBA-83AF-936C509A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5F0-F754-4C18-955B-9C310333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6021-FAF1-4DFD-9DCC-72FE83D7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4283-C4BB-4428-B4C5-447B3B00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7E7-9CDB-49F2-AF32-6398F05F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533-6BA3-4B7F-A66F-BF772611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8D8-900B-4C3D-AE70-5A89BDC9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825D-B010-41F4-9BC3-BAD89919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559-BF69-4D01-96CF-69EBAD67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F69-9AFE-4989-BAAB-B025CCA6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3D8-905A-4DF0-9C51-1528D89B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9DC4B-1FB8-45EF-9350-ABD4B696ED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